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605-378E-4145-833C-13A26D8C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CBE-9697-4FE8-AE70-A63A8F34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7E10-BF07-4B95-B0B8-644B2BB0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422-BEB9-4304-B904-728722D6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665-B9EB-4030-947A-8B126069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309-E854-4E0D-8765-8F8A1C8A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3818-B887-4C5F-863F-53FCB9DB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650-0688-4BEF-A030-72D0AD6C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5F0-48A2-4C8C-A21B-6A95BD56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DC0-E2F6-40B9-95C1-219F9F66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2AE-A1B8-47F0-962D-E7C01D77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223-F1FD-48CE-9BDA-F9719DFB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BE02-B126-4151-9D84-4BD9FCB6B83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13 Ježiš je ten dobrý Past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 je ten dobrý Pastie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stou spásy vedie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žne berie na ramen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večky, čo blúdia v tmá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 je ten dobrý Pastie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hlas tak milo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ním ísť chc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oslušn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bať na jeho vol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ím slovom verne ved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ateľ môj a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čí úzkou cestou kráč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re dáva jasný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 je ten dobrý Pastie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hlas tak milo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ním ísť chc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oslušn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bať na jeho vol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keď svet ma priťah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svojim vábi prameň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Pán prútom zastaví m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ným chráni ramen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 je ten dobrý Pastie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hlas tak milo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ním ísť chc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oslušn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bať na jeho vol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y bôle, starosť každ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ložiť vždy pri ňom sm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pečnú on cestu poz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neho sa spoľah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 je ten dobrý Pastie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hlas tak milo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ním ísť chc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oslušn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bať na jeho volani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6:28:43Z</dcterms:modified>
  <cp:revision>22</cp:revision>
  <dc:subject/>
  <dc:title>Je veľký náš Pán, on slávy je Kráľ Nech do všetkých strán  spev vrúcnych znie chvál.</dc:title>
</cp:coreProperties>
</file>